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93D-61D0-4BDE-9363-38F73D24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9B8-F80B-4947-9494-678A7E25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09B21-7944-4D53-B57D-ABD3A958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63DED-448F-4FDB-8CBA-3C6F69B6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7502D-0614-40D4-927D-B6CCB65D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B9739-AB3E-4633-98E0-EA8AB560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5BF67-D85B-48A8-9B9D-B49FA115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7BEB6-1741-4B65-B689-A578774C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503A9-FB0E-471B-A3B6-AB50AA2B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55676-7837-4B8D-B76E-62AC0168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1A045-9F9F-4258-9A61-32D10501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12359-1559-464C-A35D-845A9393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125-7EFC-4354-8602-077791D0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5457D-7CB5-4B3B-95C9-C76FD900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51245-1579-4F8E-BE4D-3C1D17DA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11BB1-7204-4DE3-B560-A64A5C0F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72EAF-20B7-4204-BE42-686CEB17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886F0-D9B0-4818-A6EB-08572FC3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A64D5-EB96-4BA2-BBB6-D6F7548A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DEE1B-E0F6-47FA-979F-C94E57C5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B6A77-9C4F-4CCD-B6D5-07391417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1D500-5BE6-43E1-A610-018BB908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F0687-D6E7-4FA1-AC7E-2107E489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662-EA2C-473E-891A-744A0F0D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09C55-40CB-49BF-B945-CFD4CC1E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2CDC0-66CB-4229-9DFE-F47C2DE2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648F9-12A5-4099-91DA-DECFE9D2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7E0A0-BE41-4CA3-8C81-3235189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38EBE-7B92-4FD2-BC9D-52D0015F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C2C60-54E3-40F1-8047-840769C1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40D7A-FBFD-40A7-8C3F-D6F39749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09B74-9F92-450F-ACBD-1FEB8584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2738B-B808-45E2-B053-A971F7C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69FA7-9DDA-4EE4-8B87-A9DE9ED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6B05-F08E-42CC-9507-077FE83D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CC690-2ED4-4F29-B8EC-B22F8DF2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A3D3A-C308-4D94-B325-81256396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ACF27-4665-45D3-A5D3-BA70C606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157E6-1164-42D0-8967-D3496C99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FEF88-8C7C-4496-A6B9-EB68732A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7C5DB-01A2-404D-85D4-0322E3A2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1A963-B4B1-41BA-B6F7-C9220CAD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BD185-0B04-4542-BB7D-EC883A9D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72C51-2362-4AAB-B48C-C41AC815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B6402-96A7-4217-811B-53EA962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E160-6C7F-40FA-A846-4C0FD012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9ABB5-AA2C-4BE8-82A2-8874703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C5E42-BD44-443D-916E-B93092C0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4076-B6F0-4E21-B916-E38ABE7B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6EDFF-AD09-4A6B-B018-DF09144F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6A2C7-A77E-4ABF-811E-706ADE2E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32FF3-E0EF-43C8-B008-D1372E68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9F94E-F833-4124-8B21-4954C2B5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7C35C-F7BE-4005-8E81-96827BA3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5500D-016D-4C3C-9D9F-9C2C18B4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4E423-E91D-4625-BE1B-4D76F443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3CAD-925E-4288-B0CD-09E9F84B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9A86D-568C-4973-B7A6-5484727B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B597E-8961-40BD-8AF4-05E3E42C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95408-2E97-46A1-8F81-81AB916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5D53C-C823-4A1D-9BE6-1FCCFE22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A2043-6D2C-4C75-9D09-245A3A44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B0C32-4E2B-43BE-8C24-0E561484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8205F-F9D0-4314-A66C-6F139125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A0BD9-BA36-46E6-89A4-E0AB9911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818E9-EC2B-48E8-8466-1768270B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D62ED3-2B8F-4EF2-A2EB-C391B866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E259-8E56-4852-A0EE-96EB1CA8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09DCB-F063-421B-A639-EB165394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38C4D-EF5A-48E1-B72A-10332810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75FDF-7C11-46A8-84E1-B0E502C4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62181-5890-4BFB-B5B9-C99C2F01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B0046-A0A3-49C5-939F-64103DA7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8FAD1-A023-4E50-A139-4DAE51DC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E366B-1F87-4906-93BB-1B40889B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77EC8-2D94-4B8D-BFD6-5978A2CF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F1A2DA-7022-4667-A56D-44EE55B6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96A93-952A-4CFF-BF1F-3185E189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512D-FCCB-457C-9178-5183A1AA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5B84A-9872-48C9-B021-9C6CFCBA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95039-A9A9-4896-90CC-27D37EC8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17497-0B91-451F-AFF5-08E4CEF7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0C86C-0A46-4FD1-9B0F-1EB847B6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6AB62-505F-45C0-9C3F-EACEA5E8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96F22-6B1A-4426-A471-A2F59EF2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B736F-9E42-475D-B424-62F14DF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F0F14-290F-45BC-A890-7D4F32C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997A7-388F-48D9-A9E1-819813C1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E6A73-6FBB-4F75-875A-CA56260E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9ECA-9C77-41E5-AB3B-27C14220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ECDED-5CDF-47B1-ADB5-4158F029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3594A-3679-4967-9F3D-661F5627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FBDF0D-F044-4261-BACF-DBEC722F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1A3DB-0D87-4D22-BEBA-2134E4CA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2BE233-92A7-4E11-AF81-3D3CCBE3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BCC09-CDCA-42CE-806B-AFE2EE90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BF9177-2565-48A6-BD49-423375ED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4DAA8-28B7-4668-BBA2-93EB85F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B6D91-273F-40F7-B027-8907C05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15403-2DD2-4CBA-95EE-07D7E149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6858-452F-4D0E-8665-CB685A01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28BAA-ECE6-4D13-A3E1-ACC046E0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23906-71F8-4F69-BF8C-426A8D17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4B7A8-6BC4-42D5-8D52-AAFE5B7C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A9B09-603B-49B0-91E0-8670FFF8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81E9E6-1A9D-4E93-963C-DA400E13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4816A-384A-4FA9-AF85-47B8DD01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FF431-A8DD-4371-9B61-B394ABC0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13E25-10B5-428D-B8C2-458AF9DB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74184-4EF7-4E18-8C11-7B879D6B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6EE7C-B99B-4CD9-A4F3-7E542334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378-2CD0-4FE1-87F1-364D30AF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FE29-7ED3-4101-BBA1-0F3AD8E3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B9DE9-062E-4533-9FDE-0E3DBAFA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1A9A9-EAAD-40B2-90FE-9215A7F7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16E9A-F9B3-46B1-8FAD-56FA1C18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CFCAC-09B2-422C-BCE9-42715020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A3C95-3478-41DA-A839-3096D10F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7F909-4979-4448-B393-FF4CA964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9E00E-2D6A-4D8A-8217-9FB87819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44926-C6FD-4339-B3C8-3C35778C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5A79D3-C044-4C46-A403-F6757B89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09680-CE24-4619-B838-2B39647D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0966-6ECF-4146-8977-91200D8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885AA-2630-4464-B202-50DB525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DAD79-C228-4205-8E68-96570806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5F6884-00A7-42B4-9D2F-850BABD5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FE1B7-2104-4A67-A1E5-56FA6E78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AD791-B68E-4E52-A5A9-8D87FCB1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76EEF-775E-45F6-B044-E5E81505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B70A4-AAFF-49ED-91F0-E8D24BBC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58C35F-4A15-42F8-A5D6-B2ADDD4A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CED76-ADB6-4A37-A25E-E0ECFB50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DAABA-17D8-4235-96A9-CB4378C0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CDBA-D604-4411-B48D-0F5B36B7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A6263E-D6DE-4AA8-BA4D-433CFBB5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F66F7D-DD44-46D2-8AD1-44C268B7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0F6C5-6400-45B6-9516-D3F9BC38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40893E-2D7D-4090-8689-AFDA4CC9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792C06-FE65-470D-B3CD-BBE488D4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33116-3CB1-44DE-94D9-6EBB69A9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F434F-3A1B-4CB8-B3A3-A5F9B57E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870B6E-F9E3-450B-8995-1EB11B9C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762A9-B614-420C-B8AC-18424AB7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8D758-00F8-4EA2-8FB2-A7BA315E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25F1-AC2B-477D-83AD-9181AA63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61E43-A144-4C3A-A015-656E03F2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88F3E-F7F1-4ADB-AA8A-7BD10835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A7CEB-7C96-48F7-99A9-DF9331AB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B923C-2CCF-4092-AF1C-A400860C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A9597-E0BE-4924-848C-E6CD9DDD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CA60B-9C93-44CE-806B-EB8CCDF2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63476D-66F2-4183-BE62-DC377A8F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1E40F-FF3A-4692-9F74-4275F2C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D18851-F1AA-478F-BF64-0B708CE2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121AE-7343-4D5C-92F5-8EBEE35E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696F-B5DC-41B4-B9FA-5FD87944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F50D72-B7E1-4BA1-992C-1D893CB2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E4847C-5C18-43AB-8789-1F8E2ACB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403877-36E8-4FE5-9784-4EFD6555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10610-6C85-450F-AF74-D5A7568E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570F97-E76B-42E1-BABE-FCE0AA8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365BF9-6002-4B04-8FA4-A3469D18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406BF8-0C01-4B86-B99B-FF1DAA09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62732E-B838-4E29-8443-CD74A55F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927053-0740-45C0-89D5-246125BF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F40D7-0980-4FEF-8025-E424C96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436C-FBA0-435C-AE78-5DF28981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63929-61C7-4AFC-A654-69DA88D0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DD34A5-1D7A-4D2A-B559-D2BDFBAB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54A69-11D3-4734-AFDF-451D6E8D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FACA-7F62-45E4-8BB7-845B8F0A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8122-AB18-4D92-A25F-23F32D58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6362-7AEF-41ED-BD6E-679CEA70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1094-6CD2-498A-A26B-569C315D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E9F-133E-43A2-A067-8FF91988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4104-AC96-4A55-B9C3-1EFA8EEF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028B-143C-407D-A463-C77D3BA9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F940-10C3-4176-B5FB-03F697C3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5ADE-A897-41FE-8493-EC5F5B12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2C6A-923E-4B43-8690-70230844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0C61-F845-48AF-8833-4C6D9888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A543-B44D-4193-8060-781EE1C0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8E6E0-FBCC-4805-91B3-A61191FB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A895F-6EE8-46CE-B1D4-7AC953FA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95EF1-CD9F-4343-B776-212879B6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D08-F6D5-43D1-A513-7B7E8BC8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A1C83-F159-4023-8415-CA156FE0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C4F7B-9897-4005-A6A4-1878E7CA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07FC-E043-4263-B402-8958B1EE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7C14-51EB-41A9-92FD-0620669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6135-44CC-4442-B9D7-220B293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5850-E630-4C70-B993-A6B65921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13A5-DF0B-4835-9170-B8FC5690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9813-B4B1-4E9E-A7E1-D181CDA4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DCDD-B2B0-4B38-AD87-25CBCECE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94E87-D2E6-4D6B-9B36-24239A54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B91-CB88-400A-AAE7-E48A8996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88A32-D075-418D-AAE8-0CD3A854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91BF-7648-4DDB-AFF5-C4A728B7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C8D1A-5BD0-4240-B8B0-FCB56B6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8E224-3265-42B7-91A9-2E0996B3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9A988-8963-404A-902D-4B3F6AB3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1108D-4C7B-46FB-8DCA-A7C2287A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6DD5A-2D0F-499B-9D9B-ED092C0A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EE17E-9F8C-432E-A47D-80B85AED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BA878-D5EE-4814-BA81-CE0CCCE1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87441-EFA6-42E4-B55E-ED4C8291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AAD-77E1-48A6-8DA8-ECA7A07B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9BD1C-7124-4CA4-98EE-4D5F8B54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A99DC-BC84-452A-9D96-3268EEE5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91795-D528-4A19-A0B4-A0926647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31839-8913-4BAE-BFA3-8C726D6B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4C30-0EFA-4A48-BF92-3923072F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0C251-EB47-4257-931B-D98EC21C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4074F-D8F3-4CEA-AE24-7C068D4E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57723-4EB6-42DC-81AE-6EB0ED2C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FD0E-6188-4763-8C9B-DA873028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1825C-97E9-4940-B4E1-302FE7BD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44F-C0D9-45BB-878B-0A18D115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DCAA5-4495-42B2-8601-948254EB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2B1FF-47D9-4A8E-B89B-FA044D15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9E7F6-B861-4379-82EA-683F3CC6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7F8A2-2616-43BA-A76C-8012B511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FA3EA-E75B-4ABB-868E-BCDF3736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1BED-5533-44C1-B7BF-99BFA817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E0FE3-D035-44F1-ACA8-AC85A65A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6FB98-1D9C-401C-96FA-B0653457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7E87B-D8E4-419A-A888-F682DC4C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1A95C-E9C8-42C4-BAAF-A4AFAAD3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5E6-C2CD-4777-814F-7701C51F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23125-8227-4656-8C37-FCBB4B88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C749C-9338-42B2-8328-38C681E6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05753-8C20-43CA-A20B-6BD21A36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B72CD-B288-48A8-890F-B30FC229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85E1-E90F-4D2A-B6B4-E06C53FE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868CA-762C-46F3-B80A-3B510699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5FBED-CB1E-41BA-9FE6-50C71B77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12ADD-4145-4107-80D3-C9D08A64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0E9E-9B55-48BA-B217-5823CFB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68EE5-4EC3-45C9-9BAD-7BCFF1C2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B9B-948B-493B-B43D-1A63B22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35AE7-ECC3-48BB-AD33-F4DEE5F4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2D28A-36B6-430E-BFDC-8F79F72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308F0-0A1D-4BA1-9A9B-81C2A748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71640-9FAE-4E5E-99AD-D29F159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769B5-9BDD-4860-B6F7-DFD11317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9811-6BA7-4010-AD1D-217A4589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C2767-3D45-41D3-BC8B-3F1ED5AE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8E82A-A5EC-442E-81C3-410FE3A7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245C3-3049-4624-9927-7262639C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03DA3-A663-4F45-A69E-CD7B8F00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DB76-88EF-4369-8052-E70190B0D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5A7E-84BF-4EC7-803E-6DA9AA519C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3BB2-7F5A-45D0-9C16-8C9F243189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4E2D-B813-4A77-A990-D191281FF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A9C-F724-4200-8F80-0101171B29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359E-4FA4-45EF-9C39-293512161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CEBB-4460-469B-81DC-369290E489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6D45-CEDB-4567-9C56-54D7DDF194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D2E1-7023-479F-89B5-11ED0153DB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C9C9-637B-47E1-98BA-ECC3E9C32A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ED31-F0DD-4EAA-9FAB-51F4E8F87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72C3-D653-40A8-BF4F-0FF10A0477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3D49-5816-4B31-AF39-0A8A5711A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8C7-7CE5-452D-A672-5579FA293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DD90-18F4-487A-91D0-2F795AFAA8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161E-BFF0-48BE-963F-1FC223357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1100-3656-451E-B807-F7F36DBF40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438C-0B33-41EF-9F03-47927F060C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DE83-D5DC-47B6-8186-FF7448DF2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1C9A-5BE8-46FB-B1BE-9DF1114D2F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FC69-6FA0-4B31-973E-749C33177E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AB62-5F7C-46A3-8ECE-F1E5D4F50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C743-3072-457F-B910-EC01214D49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3E37-7FEC-4D55-8907-D76C4506D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2D5A-4EDF-4D23-BB27-A494ABA0C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93A4-208C-4F89-B6E5-7687D87776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67A6-B10B-436B-98A2-2C0FB1EAE5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4B9A-371D-4FAF-B9F1-66B5E2BF0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5F26-CCD3-4739-90D3-36C0E87B77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A655-BC1D-42CC-BD27-1CF291C136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814A-D87D-478F-8540-5612222E7C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E49-2798-4569-B688-BAD16E1327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7671-5857-4999-BDCA-A8E20C94BE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7381-68C2-42D1-A1BC-9C1B60BC31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2784-ECBB-489B-8E0D-97E7020B27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D0B2-B4B8-4160-9C34-6E716BE1F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3DE9-9719-4095-A466-366AC50DC8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C8C2-D520-4ECB-9621-D93B1EA383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621E-B4A5-47BC-AEB0-DDFB9A2C4D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CA14-A116-4A67-8198-636A027AD3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138320" y="3005280"/>
            <a:ext cx="686736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28958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6" descr=""/>
          <p:cNvPicPr/>
          <p:nvPr/>
        </p:nvPicPr>
        <p:blipFill>
          <a:blip r:embed="rId2"/>
          <a:stretch/>
        </p:blipFill>
        <p:spPr>
          <a:xfrm>
            <a:off x="3643200" y="1857240"/>
            <a:ext cx="23338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05440" cy="4972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428840" y="2214720"/>
            <a:ext cx="68580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1004760" y="1424160"/>
            <a:ext cx="7134480" cy="40096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1038240" y="1471680"/>
            <a:ext cx="70675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39640" y="803160"/>
            <a:ext cx="8067960" cy="6010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1692360" y="4430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1763640" y="58705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1148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2"/>
          <a:stretch/>
        </p:blipFill>
        <p:spPr>
          <a:xfrm>
            <a:off x="1619280" y="1766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3"/>
          <a:stretch/>
        </p:blipFill>
        <p:spPr>
          <a:xfrm>
            <a:off x="1692360" y="314172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4"/>
          <a:stretch/>
        </p:blipFill>
        <p:spPr>
          <a:xfrm>
            <a:off x="1692360" y="46465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755640" y="824040"/>
            <a:ext cx="7734240" cy="2438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2" descr=""/>
          <p:cNvPicPr/>
          <p:nvPr/>
        </p:nvPicPr>
        <p:blipFill>
          <a:blip r:embed="rId2"/>
          <a:stretch/>
        </p:blipFill>
        <p:spPr>
          <a:xfrm>
            <a:off x="1459080" y="3560760"/>
            <a:ext cx="6352920" cy="3181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3"/>
          <a:stretch/>
        </p:blipFill>
        <p:spPr>
          <a:xfrm>
            <a:off x="1908000" y="1844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4"/>
          <a:stretch/>
        </p:blipFill>
        <p:spPr>
          <a:xfrm>
            <a:off x="1908000" y="2703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5"/>
          <a:stretch/>
        </p:blipFill>
        <p:spPr>
          <a:xfrm>
            <a:off x="1908000" y="36385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6"/>
          <a:stretch/>
        </p:blipFill>
        <p:spPr>
          <a:xfrm>
            <a:off x="1908000" y="53737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509760" y="892080"/>
            <a:ext cx="8124480" cy="5705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2050920" y="6041880"/>
            <a:ext cx="144144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3"/>
          <a:stretch/>
        </p:blipFill>
        <p:spPr>
          <a:xfrm>
            <a:off x="4140360" y="6041880"/>
            <a:ext cx="143964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4"/>
          <a:stretch/>
        </p:blipFill>
        <p:spPr>
          <a:xfrm>
            <a:off x="6516720" y="6041880"/>
            <a:ext cx="1440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2" descr=""/>
          <p:cNvPicPr/>
          <p:nvPr/>
        </p:nvPicPr>
        <p:blipFill>
          <a:blip r:embed="rId1"/>
          <a:stretch/>
        </p:blipFill>
        <p:spPr>
          <a:xfrm>
            <a:off x="414360" y="1176480"/>
            <a:ext cx="8315280" cy="45050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4067280" y="2060640"/>
            <a:ext cx="144144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144144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6" descr=""/>
          <p:cNvPicPr/>
          <p:nvPr/>
        </p:nvPicPr>
        <p:blipFill>
          <a:blip r:embed="rId5"/>
          <a:stretch/>
        </p:blipFill>
        <p:spPr>
          <a:xfrm>
            <a:off x="3571920" y="3857760"/>
            <a:ext cx="23335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24520" cy="4838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6" descr=""/>
          <p:cNvPicPr/>
          <p:nvPr/>
        </p:nvPicPr>
        <p:blipFill>
          <a:blip r:embed="rId2"/>
          <a:stretch/>
        </p:blipFill>
        <p:spPr>
          <a:xfrm>
            <a:off x="3605040" y="1285920"/>
            <a:ext cx="2333880" cy="9525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6" descr=""/>
          <p:cNvPicPr/>
          <p:nvPr/>
        </p:nvPicPr>
        <p:blipFill>
          <a:blip r:embed="rId3"/>
          <a:stretch/>
        </p:blipFill>
        <p:spPr>
          <a:xfrm>
            <a:off x="2379600" y="4094280"/>
            <a:ext cx="2333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1:1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